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5F7D-FB80-40A0-98A0-B6DADC87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C71-F072-4F3D-9672-11CAFE80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502-7229-44B3-B064-9754095E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2DE-C49C-40C7-BAAD-476BBA93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D16-3EF0-4F18-B8B4-0A622556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E4A-CF79-4C75-A6D3-9286E0A6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3B1-D7E4-42D1-BC26-F80C3F8F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2F4-35C6-47D6-A94E-66FFF650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E3A-3E37-4656-8E05-BE871537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AE8-A577-41C3-9ACA-215581BE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4E2-BEB2-48D7-8133-A6E9E15B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5553-544C-4278-B432-0F0BF2C8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CA07-A753-4A78-AD44-0DC162B825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st Participle used as Object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bod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ought the battle l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ith my watch l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 didn’t know what time it w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und two of the windows brok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anted their buildings constru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way to look unnat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onl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anted traditional materials u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is to B what C is to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言正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29840" y="319932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to them what fish is to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ertain Sm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ertain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 certain de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certain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me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must be some mis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remember reading about him in some magaz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260280"/>
            <a:ext cx="784692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d prefe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refer something tha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d rather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 like is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m interested in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ould feel happy i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’t stand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don’t get very excited abou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9-06T15:10:21Z</dcterms:modified>
  <cp:revision>2</cp:revision>
  <dc:subject/>
  <dc:title>PowerPoint Presentation</dc:title>
</cp:coreProperties>
</file>